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A550EA9-CB1B-43C2-81C5-EF0861F93829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7:04:51Z</dcterms:modified>
  <cp:revision>54</cp:revision>
  <dc:subject/>
  <dc:title>Slide 1</dc:title>
</cp:coreProperties>
</file>